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8FC-0657-42EA-83F9-6C67D508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107-3DF2-49E5-AEA0-D63F5FED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9A2-12D8-4490-B9B2-7F742689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D8DD-05D5-46F9-A22F-EEF652A8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CC6F-A5A8-402E-82CE-47285D3C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FA28-18DF-40F9-9F65-DF8E157B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DE93-F224-4297-87F6-8B967B86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ABFA-E630-4E17-8484-3603EFCD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C79E-395B-4DFB-95D5-D7DF81C2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D9FF-0C39-4CF5-A502-E0A7A44D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1716-8721-4DD7-B99D-17FF481F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2A3D-83B8-4F2E-AE3B-3BBBBEEC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C215-873B-4FF2-96ED-0E237E11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F14B-4FEF-406A-A133-C68CCC0A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2B68-C95A-489A-A8CE-ECCDBE2E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D844-2582-456D-9E5E-AA088DD9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56D7-29B7-4F3A-8EA7-9714A4C9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D34-CCC5-4770-B896-487D1053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908-4A1B-412E-BD10-B025CE91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B20F-C529-4A2D-BCA0-A6E333A7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217-BC80-4FC6-94AD-E48BF662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224-A2AC-42C0-BFA5-9A371D04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3AF-405B-4A51-AECE-19412FE1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7E4-C2ED-434F-B090-21162EC1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F537-75BA-498B-A879-E909D721244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FB81-30AE-4F0F-BB91-D1ABA1FD4E9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0" y="262080"/>
            <a:ext cx="9144000" cy="45352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4067280" y="4292640"/>
            <a:ext cx="501156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одготовил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учитель ист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ГБОУ Школа № 216 г. Моск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острюков Михаил Александ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nstantia"/>
              </a:rPr>
              <a:t>Резолюция Генеральной Ассамблеи ООН регламентирует порядок преследования, арестов военных преступников по всему миру.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 применим срок давности преступления к военным преступникам!!!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1"/>
          <p:cNvSpPr/>
          <p:nvPr/>
        </p:nvSpPr>
        <p:spPr>
          <a:xfrm>
            <a:off x="-252360" y="476280"/>
            <a:ext cx="979308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ЗНАЧЕНИЕ МГ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а жизни и достоинства в условиях войны, оградить человека от воздействия грубой си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может исключить войну, но может ограничить бедствия, вызванные 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3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личие МГП побуждает людей не совершать преступ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4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усмотрены санкции (возмещение экономического ущерба, уголовное преследование за военные преступления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95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00"/>
                </a:solidFill>
                <a:latin typeface="Calibri"/>
              </a:rPr>
              <a:t>План: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280" y="1258560"/>
            <a:ext cx="86043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онятие МГП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Источники МГП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омбатанты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Основные направления МГП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оенные преступления и преступники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начение МГП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9" name="Рисунок 2" descr=""/>
          <p:cNvPicPr/>
          <p:nvPr/>
        </p:nvPicPr>
        <p:blipFill>
          <a:blip r:embed="rId1"/>
          <a:stretch/>
        </p:blipFill>
        <p:spPr>
          <a:xfrm>
            <a:off x="5724360" y="4559400"/>
            <a:ext cx="32720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Calibri"/>
              </a:rPr>
              <a:t>Войны в истории человечества.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8920" y="1125360"/>
            <a:ext cx="828036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14 000 вой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гибло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 – 5 млрд челове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1945 – Организация Объединенных Наций (ООН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оотношение жертв в современных военных  конфликтах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1/10 – военный – граждански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1/100 – военный – гражданский в условиях ядерной войн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00"/>
                </a:solidFill>
                <a:latin typeface="Calibri"/>
              </a:rPr>
              <a:t>Понятие МГП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МЕЖДУНАРОДНОЕ ГУМАНИТАРНОЕ ПРАВО (МГП)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отрасль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Constantia"/>
              </a:rPr>
              <a:t>МЕЖДУНАРОДНОГО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права (совокупность отношений между государствами), которое касается правил ведения войн, законов и обычаев ведения войны, отношений между воющими странами, а также между нейтральными и воющими странами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ЦЕЛЬ МГП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гуманизация средств и методов ведения войны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00"/>
                </a:solidFill>
                <a:latin typeface="Calibri"/>
              </a:rPr>
              <a:t>Источники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Конвенции в Гааге - 1899, 190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Конвенции в Женеве – 1949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d0d0d"/>
                </a:solidFill>
                <a:uFillTx/>
                <a:latin typeface="Constantia"/>
              </a:rPr>
              <a:t>ЖЕНЕВСКОЕ ПРАВО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МГП – правовая основа для деятельности Международного Комитета Красного Крест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(с 1860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Плюс 3"/>
          <p:cNvSpPr/>
          <p:nvPr/>
        </p:nvSpPr>
        <p:spPr>
          <a:xfrm>
            <a:off x="7308720" y="5229360"/>
            <a:ext cx="719280" cy="647640"/>
          </a:xfrm>
          <a:custGeom>
            <a:avLst/>
            <a:gdLst/>
            <a:ahLst/>
            <a:rect l="l" t="t" r="r" b="b"/>
            <a:pathLst>
              <a:path w="719138" h="647700">
                <a:moveTo>
                  <a:pt x="95322" y="247680"/>
                </a:moveTo>
                <a:lnTo>
                  <a:pt x="283399" y="247680"/>
                </a:lnTo>
                <a:lnTo>
                  <a:pt x="283399" y="85853"/>
                </a:lnTo>
                <a:lnTo>
                  <a:pt x="435739" y="85853"/>
                </a:lnTo>
                <a:lnTo>
                  <a:pt x="435739" y="247680"/>
                </a:lnTo>
                <a:lnTo>
                  <a:pt x="623816" y="247680"/>
                </a:lnTo>
                <a:lnTo>
                  <a:pt x="623816" y="400020"/>
                </a:lnTo>
                <a:lnTo>
                  <a:pt x="435739" y="400020"/>
                </a:lnTo>
                <a:lnTo>
                  <a:pt x="435739" y="561847"/>
                </a:lnTo>
                <a:lnTo>
                  <a:pt x="283399" y="561847"/>
                </a:lnTo>
                <a:lnTo>
                  <a:pt x="283399" y="400020"/>
                </a:lnTo>
                <a:lnTo>
                  <a:pt x="95322" y="400020"/>
                </a:lnTo>
                <a:lnTo>
                  <a:pt x="95322" y="24768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лючевые понятия МГП: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батанты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оенноплен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оенные преступн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00"/>
                </a:solidFill>
                <a:latin typeface="Calibri"/>
              </a:rPr>
              <a:t>Комбатанты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9280" y="980640"/>
            <a:ext cx="885672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Лица, входящие в состав вооруженных сил сторон, находящихся в конфликте и имеющих право принимать участие в военном конфликте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Комбатантами являются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А)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оеннослужащие, входящие в личный состав сухопутных, военно-морских и военно-воздушных сил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Б)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артизаны, личный состав ополчений и добровольческих отряд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В)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ипажи торговых морских судов и самолетов гражданской авиации, воюющих сторон, если они переоборудованы в воен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Основные направления МГП: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907560"/>
            <a:ext cx="903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Раненные. </a:t>
            </a:r>
            <a:r>
              <a:rPr b="1" lang="ru-RU" sz="2400" spc="-1" strike="noStrike">
                <a:solidFill>
                  <a:srgbClr val="f2f2f2"/>
                </a:solidFill>
                <a:latin typeface="Constantia"/>
              </a:rPr>
              <a:t>Их должны подбирать на поле боя. Оказывать мед помощь.  Медицинский персонал, мед учреждения нельзя подвергать нападению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Военнопленные. </a:t>
            </a:r>
            <a:r>
              <a:rPr b="1" lang="ru-RU" sz="2400" spc="-1" strike="noStrike">
                <a:solidFill>
                  <a:srgbClr val="f2f2f2"/>
                </a:solidFill>
                <a:latin typeface="Constantia"/>
              </a:rPr>
              <a:t>Имеют право на достойное отношение. Запрещается их убивать, наносить увечья, подвергать пыткам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Мирное население. </a:t>
            </a:r>
            <a:r>
              <a:rPr b="1" lang="ru-RU" sz="2400" spc="-1" strike="noStrike">
                <a:solidFill>
                  <a:srgbClr val="f2f2f2"/>
                </a:solidFill>
                <a:latin typeface="Constantia"/>
              </a:rPr>
              <a:t>Запрет нападения на гражданское население. Запрет бомбежки жилых кварталов. Запрет вызова голода (уничтожение складов, посевов, ирригационных коммуникаций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Беженцы. </a:t>
            </a:r>
            <a:r>
              <a:rPr b="1" lang="ru-RU" sz="2400" spc="-1" strike="noStrike">
                <a:solidFill>
                  <a:srgbClr val="f2f2f2"/>
                </a:solidFill>
                <a:latin typeface="Constantia"/>
              </a:rPr>
              <a:t>Имеют право на защиту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Средства ведения войны. </a:t>
            </a:r>
            <a:r>
              <a:rPr b="1" lang="ru-RU" sz="2400" spc="-1" strike="noStrike">
                <a:solidFill>
                  <a:srgbClr val="f2f2f2"/>
                </a:solidFill>
                <a:latin typeface="Constantia"/>
              </a:rPr>
              <a:t>Запрет ядовитых газов, бактериологического оружия, биологического оружия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Запрет использования маскировки </a:t>
            </a:r>
            <a:r>
              <a:rPr b="1" lang="ru-RU" sz="2400" spc="-1" strike="noStrike">
                <a:solidFill>
                  <a:srgbClr val="f2f2f2"/>
                </a:solidFill>
                <a:latin typeface="Constantia"/>
              </a:rPr>
              <a:t>(эмблемы МКК, журналистов)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928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Военные преступления и военные преступники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691920"/>
            <a:ext cx="9036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именение запрещенных международными соглашениями средств и методов войны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1)Бессмысленное разрушение городов и др. нас. пункт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2)Уничтожение культурных ценносте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3)Жестокое обращение с военнопленными, ранеными и больными, мирным населением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4)Угон в рабств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5) Взятие в заложник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6) Грабеж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7)Нападение на объекты, содержащие опасные силы (атомные электростанции, плотины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8)Принуждение военнопленных служить в армии неприятеля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9)Нападение на лиц, прекративших участие в военных действиях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06:41:29Z</dcterms:created>
  <dc:creator>User</dc:creator>
  <dc:description/>
  <dc:language>en-US</dc:language>
  <cp:lastModifiedBy>user</cp:lastModifiedBy>
  <dcterms:modified xsi:type="dcterms:W3CDTF">2016-10-23T15:38:53Z</dcterms:modified>
  <cp:revision>118</cp:revision>
  <dc:subject/>
  <dc:title>Слайд 1</dc:title>
</cp:coreProperties>
</file>